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34A-6459-4638-B501-7E431BEF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2D0-2241-4C31-80BD-15C045BC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EE4-7F4B-46E1-AD5D-30114E4A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030-FFCC-45E0-91B9-F0132A8A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C18-CA2A-4647-83C4-79A7200F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641-4BF7-4336-BDAF-B2744586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961-698F-4AB0-A877-50FD3FDF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778-9A9D-4160-98FF-370CD31F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865-B34C-471A-838D-F5379F22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086-D7E8-4F4D-97F9-19780D41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05B-DDB4-4E0F-9785-02A87462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EEC-5EA6-4172-8F39-3C7A8EEE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5750-5769-4DD3-AAB0-6950457CD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lla Camp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68360" y="1341360"/>
            <a:ext cx="46389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naging The Pollution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The Port Hacking Riv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HEMICAL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4:48:18Z</dcterms:created>
  <dc:creator>ella.campbell</dc:creator>
  <dc:description/>
  <dc:language>en-US</dc:language>
  <cp:lastModifiedBy>ella.campbell</cp:lastModifiedBy>
  <dcterms:modified xsi:type="dcterms:W3CDTF">2009-05-08T04:48:47Z</dcterms:modified>
  <cp:revision>1</cp:revision>
  <dc:subject/>
  <dc:title>Slide 1</dc:title>
</cp:coreProperties>
</file>